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FFB-F2BE-4AE6-B5D8-3DFB4771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80D-5F0B-4770-A5FB-F8224825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C92-30B7-49B9-A7DB-154840C6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48D-D063-4A25-A6C2-7DAE31FA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FDDD-1C7B-4597-B382-CADFCEF3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888D-B4C1-48B9-8401-81EF65C3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7CA-C375-4C03-898F-F6CEA26A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E3A-87D6-4FCA-B216-5E0EC6A6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BA2-2535-45F8-9F16-F9600ABA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08F-3ECB-40A4-8BB3-AEFF0C6F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197-BE17-4C7A-A196-58619027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45C-16E3-4405-BBAF-52F3E976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498E-E8D3-43CE-844A-321B67107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59436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Broadway"/>
              </a:rPr>
              <a:t>R</a:t>
            </a:r>
            <a:r>
              <a:rPr b="0" lang="en-US" sz="6000" spc="-1" strike="noStrike">
                <a:solidFill>
                  <a:srgbClr val="009999"/>
                </a:solidFill>
                <a:latin typeface="Broadway"/>
              </a:rPr>
              <a:t>E</a:t>
            </a:r>
            <a:r>
              <a:rPr b="0" lang="en-US" sz="6000" spc="-1" strike="noStrike">
                <a:solidFill>
                  <a:srgbClr val="99cc00"/>
                </a:solidFill>
                <a:latin typeface="Broadway"/>
              </a:rPr>
              <a:t>C</a:t>
            </a:r>
            <a:r>
              <a:rPr b="0" lang="en-US" sz="6000" spc="-1" strike="noStrike">
                <a:solidFill>
                  <a:srgbClr val="009999"/>
                </a:solidFill>
                <a:latin typeface="Broadway"/>
              </a:rPr>
              <a:t>Y</a:t>
            </a:r>
            <a:r>
              <a:rPr b="0" lang="en-US" sz="6000" spc="-1" strike="noStrike">
                <a:solidFill>
                  <a:srgbClr val="99cc00"/>
                </a:solidFill>
                <a:latin typeface="Broadway"/>
              </a:rPr>
              <a:t>C</a:t>
            </a:r>
            <a:r>
              <a:rPr b="0" lang="en-US" sz="6000" spc="-1" strike="noStrike">
                <a:solidFill>
                  <a:srgbClr val="009999"/>
                </a:solidFill>
                <a:latin typeface="Broadway"/>
              </a:rPr>
              <a:t>L</a:t>
            </a:r>
            <a:r>
              <a:rPr b="0" lang="en-US" sz="6000" spc="-1" strike="noStrike">
                <a:solidFill>
                  <a:srgbClr val="99cc00"/>
                </a:solidFill>
                <a:latin typeface="Broadway"/>
              </a:rPr>
              <a:t>I</a:t>
            </a:r>
            <a:r>
              <a:rPr b="0" lang="en-US" sz="6000" spc="-1" strike="noStrike">
                <a:solidFill>
                  <a:srgbClr val="009999"/>
                </a:solidFill>
                <a:latin typeface="Broadway"/>
              </a:rPr>
              <a:t>N</a:t>
            </a:r>
            <a:r>
              <a:rPr b="0" lang="en-US" sz="6000" spc="-1" strike="noStrike">
                <a:solidFill>
                  <a:srgbClr val="99cc00"/>
                </a:solidFill>
                <a:latin typeface="Broadway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523520"/>
            <a:ext cx="6858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s w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y r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g w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p u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c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y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c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d m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s u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 l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s 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g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y t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u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c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y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c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d m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s  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g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 t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h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t i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o m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k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b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d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w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.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if we recycle our news papers, papers, work sheets, and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u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h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m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w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k w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h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w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 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 d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u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g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h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m w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m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y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h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v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 m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d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p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u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w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l f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f y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u r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c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y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c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p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c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k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f 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w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p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p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’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v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 a s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m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l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. F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c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: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w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s p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p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r i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h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number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t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h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g t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h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f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u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d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 d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u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m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p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s 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d l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d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f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15000" y="6553080"/>
            <a:ext cx="114300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1143000" cy="259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267080" y="7162920"/>
            <a:ext cx="1413000" cy="19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143000" y="7162920"/>
            <a:ext cx="1413000" cy="1981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514600" y="716292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4:57:05Z</dcterms:created>
  <dc:creator>mes5c</dc:creator>
  <dc:description/>
  <dc:language>en-US</dc:language>
  <cp:lastModifiedBy>mes5c</cp:lastModifiedBy>
  <dcterms:modified xsi:type="dcterms:W3CDTF">2011-02-03T13:13:36Z</dcterms:modified>
  <cp:revision>8</cp:revision>
  <dc:subject/>
  <dc:title>RECYCLING ROCKS</dc:title>
</cp:coreProperties>
</file>